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556-FEE1-48DA-9173-DCABF830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9A5-ACE5-4C42-8CD1-369DF84D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47C-DF79-4882-B773-36ED6DD5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CF1-B1BF-4DA8-8060-292133EF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99C4-ACB0-490A-938B-AC5EE374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DB9D-8C3D-4502-8B1C-C69398E4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0079-4007-4D41-887C-76F7FD5A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341B-5404-422C-9796-81A1D322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2531-0F5E-43AB-8916-28B57AD1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171B-69AD-494A-A3D3-F71136CC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650B-D2CA-4CD0-9D69-9E316AB1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CD4-AD37-4E3D-93AB-F08F5B69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3507-A1E3-4801-8A0A-ECCA8D88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290A-BFBF-4D67-9DAA-829565B4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D49B-493D-41F9-B976-C9F0DB00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9657-444B-4E39-A258-1D2E683B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C8BF-9EC6-4706-9D48-12FA5EFD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CF3-9D6B-4CF8-B7DC-CADA8143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55F-D333-4A1D-863A-3AAF875D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32D-30FD-4028-8518-1949F88E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330-9C1C-48B6-84C9-388FCFAE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30B-13EE-4772-9120-2D14F000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DA8-3620-42B9-A81C-981977BB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739-403C-4322-BFC8-FDF9B208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D159-10A9-4873-85CD-0E08DA6B6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EE9F-4B8C-45F5-8085-AD4EB2866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pong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 sponges mov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.  Adult sponges are sessil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y are young, larvae move through currents to find a suitable habit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ttach and grow when they find an area to l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3962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ere do they like to liv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live in the shallow waters near the shoreline of saltwater or fresh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live in colonies (group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roduction in Spong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sponges reproduce sexu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sponges are hermaphrodites (have male and female reproductive part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gs are released in the water by one spo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rm are released by another spo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gg is fertilized and becomes the larvae that travels until it finds a habit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do sponges protect themselve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wo modes of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cules—spiny processes that deter other animals from eating the spo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s—released to deter animals and even harm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are sponges important to human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emicals used for protection are being researched to provide treatments and cures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al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cer trea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medic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llring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out a sheet of paper.  Fold it for Cornell notes.  Answer this question at the top of your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ree words that you think of when you think about a spo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pong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st ani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ng to the Phylum:  Pori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ifera comes from Latin wor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us—h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re—ca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16520" y="4070520"/>
            <a:ext cx="3929040" cy="2025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267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Porifera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ges are named for the way that sponges get their foo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ges filter f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iphon materials in through their pores (hole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filter the water to get food and absorb the food into their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they look lik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ous (filled with lots of empty spa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many different colors (red, blue, yellow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nd or tube sha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mmetrical body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038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es a sponge d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habitat for worms, shrimp, snails, and sea st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habitat for photosynthetic bacteria and prot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food source for some snails, sea stars, and 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does a sponge ea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side of the two sponge layers is lined with specialized cells called collar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r cells beat flagella so that water will run through the pores of the spo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s pull the food and oxygen out of the water so that the sponge can use th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does a sponge need oxyge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mportant cell process uses oxyg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es the cell complete this proc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swer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respi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lease energy for use in the cell and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7:50Z</dcterms:created>
  <dc:creator>kmcgrady</dc:creator>
  <dc:description/>
  <dc:language>en-US</dc:language>
  <cp:lastModifiedBy>kmcgrady</cp:lastModifiedBy>
  <dcterms:modified xsi:type="dcterms:W3CDTF">2010-11-22T21:00:36Z</dcterms:modified>
  <cp:revision>4</cp:revision>
  <dc:subject/>
  <dc:title>Sponges</dc:title>
</cp:coreProperties>
</file>